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228600" y="878040"/>
            <a:ext cx="8686800" cy="484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a:t>
            </a:r>
            <a:r>
              <a:rPr b="1" lang="ar-SA" sz="2400" spc="-1" strike="noStrike">
                <a:solidFill>
                  <a:srgbClr val="ffffff"/>
                </a:solidFill>
                <a:latin typeface="Arial"/>
                <a:cs typeface="Times New Roman (Arabic)"/>
              </a:rPr>
              <a:t>السادس عشر: الارباح المحققة والقابلة للتوزيع</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أن يغطى الدارس فى نهاية هذا الفصل ماي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حديد أسس الاعتراف بالإيراد طبقا للمعيار المحاسبى المصرى رقم (</a:t>
            </a:r>
            <a:r>
              <a:rPr b="0" lang="ar-SA" sz="2400" spc="-1" strike="noStrike">
                <a:solidFill>
                  <a:srgbClr val="ffffff"/>
                </a:solidFill>
                <a:latin typeface="Arial"/>
                <a:ea typeface="Arial"/>
              </a:rPr>
              <a:t>11</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واعد الخاصة بتوزيع الارباح</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ar-SA" sz="2400" spc="-1" strike="noStrike">
                <a:solidFill>
                  <a:srgbClr val="ffffff"/>
                </a:solidFill>
                <a:latin typeface="Arial"/>
                <a:cs typeface="Arial"/>
              </a:rPr>
              <a:t>التعامل مع الفوائد وتوزيعات الارباح ومكاسب وخسائر الأدوات المال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152280" y="304920"/>
            <a:ext cx="8763120" cy="5580360"/>
          </a:xfrm>
          <a:prstGeom prst="rect">
            <a:avLst/>
          </a:prstGeom>
          <a:noFill/>
          <a:ln w="0">
            <a:noFill/>
          </a:ln>
        </p:spPr>
        <p:style>
          <a:lnRef idx="0"/>
          <a:fillRef idx="0"/>
          <a:effectRef idx="0"/>
          <a:fontRef idx="minor"/>
        </p:style>
        <p:txBody>
          <a:bodyPr lIns="90000" rIns="90000" tIns="46800" bIns="46800" anchor="t">
            <a:spAutoFit/>
          </a:bodyPr>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إيرادات المتعلقة باستخدام الآخرين لأصول المنشأة</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 (الفوائد – الاتاوات – توزيعات الأرباح)</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الاعتراف بالإيراد الناتج عن استخدام الآخرين لموارد المنشاة إذا توافرت </a:t>
            </a:r>
            <a:r>
              <a:rPr b="0" lang="ar-SA" sz="2400" spc="-1" strike="noStrike" u="sng">
                <a:solidFill>
                  <a:srgbClr val="ffffff"/>
                </a:solidFill>
                <a:uFillTx/>
                <a:latin typeface="Times New Roman"/>
              </a:rPr>
              <a:t>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من المتوقع بشكل كبير تدفق المنافع الاقتصادية المصاحبة للمعاملة الى المنشا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بلغ الإيراد بدرجة موثوق بها.</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اعتراف بالفوائد على أساس نسبة الوقت الذى تم الاستفادة خلاله بالأصل. </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وائد الودائع البنكية – الاستثمار فى السندات)</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اعتراف بالاتاوات على أساس الاستحقاق طبقا للعقد.</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اعتراف بتوزيعات الأرباح عندما يصدر الحق لحاملى الأسهم فى </a:t>
            </a:r>
            <a:r>
              <a:rPr b="0" lang="ar-SA" sz="2400" spc="-1" strike="noStrike" u="sng">
                <a:solidFill>
                  <a:srgbClr val="ffffff"/>
                </a:solidFill>
                <a:uFillTx/>
                <a:latin typeface="Times New Roman"/>
              </a:rPr>
              <a:t>استلام</a:t>
            </a:r>
            <a:r>
              <a:rPr b="0" lang="ar-SA" sz="2400" spc="-1" strike="noStrike">
                <a:solidFill>
                  <a:srgbClr val="ffffff"/>
                </a:solidFill>
                <a:latin typeface="Times New Roman"/>
              </a:rPr>
              <a:t> </a:t>
            </a:r>
            <a:r>
              <a:rPr b="0" lang="ar-SA" sz="2400" spc="-1" strike="noStrike" u="sng">
                <a:solidFill>
                  <a:srgbClr val="ffffff"/>
                </a:solidFill>
                <a:uFillTx/>
                <a:latin typeface="Times New Roman"/>
              </a:rPr>
              <a:t>مبالغ</a:t>
            </a:r>
            <a:r>
              <a:rPr b="0" lang="ar-SA" sz="2400" spc="-1" strike="noStrike">
                <a:solidFill>
                  <a:srgbClr val="ffffff"/>
                </a:solidFill>
                <a:latin typeface="Times New Roman"/>
              </a:rPr>
              <a:t> تلك التوزيع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380880"/>
            <a:ext cx="8458200" cy="4894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افصاح عن الإيراد</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المستخدمة للاعتراف بالانواع الهامة للإيرادات بما فى ذلك الطرق المستخدمة فى تحديد مرحلة استكمال عمليات الخدمات المقدمة للغير.</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كل نوع من الإيرادات المعترف بها خلال الفتر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الإيراد الناشئ عن مبادلة البضائع والخدمات.</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والخسائر العرضية التى تنشأ عن بعض البنود مثل تكاليف فترة الضمان أو المطالبات أو الغرامات.</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533520"/>
            <a:ext cx="8382240" cy="4703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لة على تحقق والاعتراف الإيراد:</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شتراكات</a:t>
            </a:r>
            <a:r>
              <a:rPr b="1" lang="ar-SA" sz="2400" spc="-1" strike="noStrike">
                <a:solidFill>
                  <a:srgbClr val="ffffff"/>
                </a:solidFill>
                <a:latin typeface="Times New Roman"/>
              </a:rPr>
              <a:t> المجل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تسدد مقدما ، ويتم اكتساب الإيراد مع توريد كل نسخة ، ويؤجل الاعتراف بجزء من إيراد الاشتراكات حتى نهاية العام والذى يحدد على اساس التكاليف الخاصة بإنتاج كل نسخة بالإضافة الى تكاليف الإعلان المبدئية التى تكبدها الناشر فى بداية فترة الاشتراك.</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يع الآجل للبضائع</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ضمن الاعتراف بالإيراد فى مثل هذه العمليات ربح المتاجرة الذى قد يثبت فور البيع  ودخل التمويل الذى يوزع على مدار فترة 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345960"/>
            <a:ext cx="778824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مثال عملى على قياس والاعتراف بالإيرا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كة توتو للاستشارات اتفقت على عقد عام </a:t>
            </a:r>
            <a:r>
              <a:rPr b="0" lang="ar-SA" sz="2400" spc="-1" strike="noStrike">
                <a:solidFill>
                  <a:srgbClr val="ffffff"/>
                </a:solidFill>
                <a:latin typeface="Times New Roman"/>
              </a:rPr>
              <a:t>1994</a:t>
            </a:r>
            <a:r>
              <a:rPr b="0" lang="ar-SA" sz="2400" spc="-1" strike="noStrike">
                <a:solidFill>
                  <a:srgbClr val="ffffff"/>
                </a:solidFill>
                <a:latin typeface="Times New Roman"/>
              </a:rPr>
              <a:t> ينتهى تنفيذه بنه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وقد كانت إيرادات العقد وتكاليفه على النحو 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إيرادات العقد</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اليف الفع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4</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a:t>
            </a:r>
            <a:r>
              <a:rPr b="0" lang="ar-SA" sz="2400" spc="-1" strike="noStrike">
                <a:solidFill>
                  <a:srgbClr val="ffffff"/>
                </a:solidFill>
                <a:latin typeface="Times New Roman"/>
              </a:rPr>
              <a:t> جنيه</a:t>
            </a:r>
            <a:r>
              <a:rPr b="0" lang="en-US" sz="2400" spc="-1" strike="noStrike">
                <a:solidFill>
                  <a:srgbClr val="ffffff"/>
                </a:solidFill>
                <a:latin typeface="Times New Roman"/>
              </a:rPr>
              <a:t>    </a:t>
            </a: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5</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6</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5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990720" y="1363680"/>
            <a:ext cx="716256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ئلـــــــــــــــ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 يتم قياس الإيراد؟</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واجب الوفاء بها قبل الاعتراف بالإيراد من بيع البضاع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تى يجب الوفاء بها قبل الاعتراف بأداء الخد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457200"/>
            <a:ext cx="853416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خاصة بتوزيعات الأرباح</a:t>
            </a:r>
            <a:endParaRPr b="0" lang="en-US" sz="2400" spc="-1" strike="noStrike">
              <a:solidFill>
                <a:srgbClr val="ffffff"/>
              </a:solidFill>
              <a:latin typeface="Times New Roman"/>
            </a:endParaRPr>
          </a:p>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ختلف الدول من حيث المتطلبات القانونية التى تحكم عملية توزيع الأرباح ومن ثم لا يوجد معيار محاسبى دولى يحكم تلك العملي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تحقق الربح إذا كان من المطلوب توزيعه ، والتحقق يعنى أن الربح قد تم تحصيله نقدا أو يمكن تحقيقه فى المستقبل أى يوجد تأكيد مناسب بشان تحصيل النقدية فى المستقب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المقبول الاعتراف بالأرباح او المكاسب غير المحققة مثل فائض </a:t>
            </a:r>
            <a:r>
              <a:rPr b="0" lang="ar-SA" sz="2400" spc="-1" strike="noStrike">
                <a:solidFill>
                  <a:srgbClr val="ffffff"/>
                </a:solidFill>
                <a:latin typeface="Arial"/>
                <a:cs typeface="Times New Roman (Arabic)"/>
              </a:rPr>
              <a:t>إ</a:t>
            </a:r>
            <a:r>
              <a:rPr b="0" lang="ar-SA" sz="2400" spc="-1" strike="noStrike">
                <a:solidFill>
                  <a:srgbClr val="ffffff"/>
                </a:solidFill>
                <a:latin typeface="Arial"/>
                <a:cs typeface="Arial"/>
              </a:rPr>
              <a:t>عادة التقييم التى قد تحتفظ به الشركة (الأصول الثابتة – الاستثمارات طويلة الاجل) ولكن من الخطورة توزيعه نظرا لأنه قد لا يتحقق فى صورة تدفق نقدى داخل مباشرة. ولكن يمكن الاستفادة منه لاحقا إذا ما فقد الأصل الزيادة فى قيمته. وبالتالى فإن تلك النوعية من الأرباح يجب ان تكون قابلة للتوزيع فقط عند تحققها ببيع تلك الأ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457200" y="609480"/>
            <a:ext cx="8001000" cy="4879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وزيعات من أرباح الاعوام السابقة</a:t>
            </a:r>
            <a:endParaRPr b="0" lang="en-US" sz="2400" spc="-1" strike="noStrike">
              <a:solidFill>
                <a:srgbClr val="ffffff"/>
              </a:solidFill>
              <a:latin typeface="Times New Roman"/>
            </a:endParaRPr>
          </a:p>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وزيع الأرباح طالما ان الارباح المتراكمة حتى تاريخ القوائم المالية موضوع التوزيع تغطى مقدار توزيعات الأرباح المقررة. وهذا يعنى امكانية توزيع أرباح رغم تحقيق الشركة خسائر فى سنة ما طالما توجد أرباح تغطى تلك الخسائر ويتبقى ما يسمح  بإجراء توزي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يؤخذ فى الاعتبار عند إجراء توزيعات الأرباح حجم النقدية المتوافرة لدى المنشأة  فى ضوء متطلبات استمرار المنشاة فى مزاولة نشاطها ومتطلبات السيول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0" y="0"/>
            <a:ext cx="8991720" cy="81406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 الارباح طبقا لمتطلبات قانون الشركات رقم </a:t>
            </a:r>
            <a:r>
              <a:rPr b="1" lang="ar-SA" sz="2400" spc="-1" strike="noStrike">
                <a:solidFill>
                  <a:srgbClr val="ffffff"/>
                </a:solidFill>
                <a:latin typeface="Times New Roman"/>
              </a:rPr>
              <a:t>159</a:t>
            </a:r>
            <a:r>
              <a:rPr b="1" lang="ar-SA" sz="2400" spc="-1" strike="noStrike">
                <a:solidFill>
                  <a:srgbClr val="ffffff"/>
                </a:solidFill>
                <a:latin typeface="Times New Roman"/>
              </a:rPr>
              <a:t> لسنة </a:t>
            </a:r>
            <a:r>
              <a:rPr b="1" lang="ar-SA" sz="2400" spc="-1" strike="noStrike">
                <a:solidFill>
                  <a:srgbClr val="ffffff"/>
                </a:solidFill>
                <a:latin typeface="Times New Roman"/>
              </a:rPr>
              <a:t>1981</a:t>
            </a:r>
            <a:r>
              <a:rPr b="1" lang="ar-SA" sz="2400" spc="-1" strike="noStrike">
                <a:solidFill>
                  <a:srgbClr val="ffffff"/>
                </a:solidFill>
                <a:latin typeface="Times New Roman"/>
              </a:rPr>
              <a:t> ولائحته التنفيذي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وزيع الربح القابلة للتوزيع طبقا لأحكام القانون على النحو 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5%</a:t>
            </a:r>
            <a:r>
              <a:rPr b="0" lang="ar-SA" sz="2400" spc="-1" strike="noStrike">
                <a:solidFill>
                  <a:srgbClr val="ffffff"/>
                </a:solidFill>
                <a:latin typeface="Times New Roman"/>
              </a:rPr>
              <a:t> على الأقل أو أى نسبة أعلى يحددها النظام الأساسى للشركة وذلك من صافى ارباح العام موضوع التوزيع.</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من رأس المال المدفوع كحصة أولى للمساهمين توزع على النحو 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على الأكثر من الباقى كمكافأة لأعضاء مجلس الادار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صة الثانية للمساهمين (إن وجدت) على ان توزع على النحو 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أن لا تزيد حصة العاملين فى الارباح عن المرتبات السنوية وإن زادت تودع الزيادة فى صندوق خاص يستثمر لصالح ا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كن تكوين </a:t>
            </a:r>
            <a:r>
              <a:rPr b="0" lang="ar-SA" sz="2400" spc="-1" strike="noStrike">
                <a:solidFill>
                  <a:srgbClr val="ffffff"/>
                </a:solidFill>
                <a:latin typeface="Times New Roman"/>
                <a:cs typeface="Times New Roman (Arabic)"/>
              </a:rPr>
              <a:t>إ</a:t>
            </a:r>
            <a:r>
              <a:rPr b="0" lang="ar-SA" sz="2400" spc="-1" strike="noStrike">
                <a:solidFill>
                  <a:srgbClr val="ffffff"/>
                </a:solidFill>
                <a:latin typeface="Times New Roman"/>
              </a:rPr>
              <a:t>حتياطيات اخرى حسب ما ينص عليه النظام الأساسى للشركة (احتياطى نظامى) او ما قد تقرره الجمعية العامة للمنشاة (احتياطى عام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685800" y="2556000"/>
            <a:ext cx="7543800" cy="825480"/>
          </a:xfrm>
          <a:prstGeom prst="rect">
            <a:avLst/>
          </a:prstGeom>
          <a:noFill/>
          <a:ln w="0">
            <a:noFill/>
          </a:ln>
        </p:spPr>
        <p:style>
          <a:lnRef idx="0"/>
          <a:fillRef idx="0"/>
          <a:effectRef idx="0"/>
          <a:fontRef idx="minor"/>
        </p:style>
        <p:txBody>
          <a:bodyPr lIns="90000" rIns="90000" tIns="46800" bIns="46800" anchor="t">
            <a:spAutoFit/>
          </a:bodyPr>
          <a:p>
            <a:pPr marL="968400" indent="-968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ــــــؤال:</a:t>
            </a:r>
            <a:r>
              <a:rPr b="0" lang="ar-SA" sz="2400" spc="-1" strike="noStrike">
                <a:solidFill>
                  <a:srgbClr val="ffffff"/>
                </a:solidFill>
                <a:latin typeface="Times New Roman"/>
              </a:rPr>
              <a:t> ما هى الشروط الاساسية الى يلزم الوفاء بها قبل إجراء توزيعات أرباح الأسهم نقد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533520" y="533520"/>
            <a:ext cx="8001000" cy="43380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ات الأرباح فى صورة أسهم (الأسهم المجان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سهم المجانية تعنى إصدار الشركة لأسهم إضافية الى المساهمين بدون تحصيل مقابل لها.</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ناء على توزيع الأسهم المجانية فإن عدد المساهمين لا يتغير كما لا تتغير أصول والتزامات المنشاة ، بل ان التغيير الوحيد هو تحويل الأرباح او الإحتياطيات إلى راس المال.</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609480"/>
            <a:ext cx="7543800" cy="6547680"/>
          </a:xfrm>
          <a:prstGeom prst="rect">
            <a:avLst/>
          </a:prstGeom>
          <a:noFill/>
          <a:ln w="0">
            <a:noFill/>
          </a:ln>
        </p:spPr>
        <p:style>
          <a:lnRef idx="0"/>
          <a:fillRef idx="0"/>
          <a:effectRef idx="0"/>
          <a:fontRef idx="minor"/>
        </p:style>
        <p:txBody>
          <a:bodyPr lIns="90000" rIns="90000" tIns="46800" bIns="46800" anchor="t">
            <a:spAutoFit/>
          </a:bodyPr>
          <a:p>
            <a:pPr marL="61920" indent="-619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عتراف بالإيــــــــــــراد</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الدخل بأنه الزيادة فى المنافع </a:t>
            </a:r>
            <a:r>
              <a:rPr b="0" lang="ar-SA" sz="2400" spc="-1" strike="noStrike">
                <a:solidFill>
                  <a:srgbClr val="ffffff"/>
                </a:solidFill>
                <a:latin typeface="Times New Roman"/>
                <a:cs typeface="Times New Roman (Arabic)"/>
              </a:rPr>
              <a:t>الاقتصادية</a:t>
            </a:r>
            <a:r>
              <a:rPr b="0" lang="ar-SA" sz="2400" spc="-1" strike="noStrike">
                <a:solidFill>
                  <a:srgbClr val="ffffff"/>
                </a:solidFill>
                <a:latin typeface="Times New Roman"/>
              </a:rPr>
              <a:t> خلال الفترة المحاسبية والتى تتمثل فى التدفقات الداخلة أو الزيادة فى قيم الأصول أو النقص فى الالتزامات والتى ينتج عنها زيادة فى حقوق الملكية بعد استبعاد المعاملات المتعلقة بالمساهمين. وبناء عليه فإن مصطلح الدخل يشمل الإيرادات والأرباح.</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ايراد هو الدخل الذى ينشأ من ممارسة المنشاة لأنشطتها العادية:</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ريد السلع سواء كان البي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قديم الخدمات سواء كان الدف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ستخدام الآخرين لأصول المنشاة.</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533520" y="533520"/>
            <a:ext cx="8153280" cy="525996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رباح فترة ما قبل التأسيس</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ى الأرباح التى تحققها الشركة قبل تأسيسها قانونا.</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هذه الأرباح لا تكون قابلة للتوزيع لأنه من الناحية القانونية تكون الشركة غير موجودة ، وعلى هذا فهى تبوب كاحتياطى ضمن حقوق الملكية مما يرفع من استثمارات المساهمين.</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دأت شركة توتو النشاط فى اول يناير وتم تأسيسها قانونا فى </a:t>
            </a:r>
            <a:r>
              <a:rPr b="0" lang="ar-SA" sz="2400" spc="-1" strike="noStrike">
                <a:solidFill>
                  <a:srgbClr val="ffffff"/>
                </a:solidFill>
                <a:latin typeface="Times New Roman"/>
              </a:rPr>
              <a:t>31</a:t>
            </a:r>
            <a:r>
              <a:rPr b="0" lang="ar-SA" sz="2400" spc="-1" strike="noStrike">
                <a:solidFill>
                  <a:srgbClr val="ffffff"/>
                </a:solidFill>
                <a:latin typeface="Times New Roman"/>
              </a:rPr>
              <a:t> مارس وقد حققت أرباح فى العام الأول قدرها </a:t>
            </a:r>
            <a:r>
              <a:rPr b="0" lang="ar-SA" sz="2400" spc="-1" strike="noStrike">
                <a:solidFill>
                  <a:srgbClr val="ffffff"/>
                </a:solidFill>
                <a:latin typeface="Times New Roman"/>
              </a:rPr>
              <a:t>60000</a:t>
            </a:r>
            <a:r>
              <a:rPr b="0" lang="ar-SA" sz="2400" spc="-1" strike="noStrike">
                <a:solidFill>
                  <a:srgbClr val="ffffff"/>
                </a:solidFill>
                <a:latin typeface="Times New Roman"/>
              </a:rPr>
              <a:t> جنيه بواقع ربح متساوى </a:t>
            </a:r>
            <a:r>
              <a:rPr b="0" lang="ar-SA" sz="2400" spc="-1" strike="noStrike">
                <a:solidFill>
                  <a:srgbClr val="ffffff"/>
                </a:solidFill>
                <a:latin typeface="Times New Roman"/>
              </a:rPr>
              <a:t>5000</a:t>
            </a:r>
            <a:r>
              <a:rPr b="0" lang="ar-SA" sz="2400" spc="-1" strike="noStrike">
                <a:solidFill>
                  <a:srgbClr val="ffffff"/>
                </a:solidFill>
                <a:latin typeface="Times New Roman"/>
              </a:rPr>
              <a:t> شهر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609480" y="380880"/>
            <a:ext cx="7696440" cy="7469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وريد السلع</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ضمن السلع المنتجة بمعرفة المنشاة بغرض البيع أو السلع المقتناة بغرض إعادة بيع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قديم الخدمات</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فى قيام المنشاة بتنفيذ عمل متفق عليه بموجب عقد وذلك خلال فترة زمنية متفق عليها والتى قد تكون فترة مالية واحدة او اكثر من فتر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ستخدام الآخرين لأصول ا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عوائد: مقابل استخدام النقدية وما فى حكمها أو المبالغ المستحقة ل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إتاوات: مقابل استخدام الأصول طويلة الاجل الخاصة بالمنشأة (حقوق الاختراع – الاسم التجارى – برامج الحاسب الآل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زيعات الأسهم: توزيعات الأرباح الناتجة عن المساهمة فى منشآت أخرى.</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838080"/>
            <a:ext cx="8458200" cy="56106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قاس الإيراد بالقيمة العادلة للمقابل المستلم او المستحق بموجب الاتفاق بين المنشأة والمشترى أو متلقى الخدمة أو مستخدم الأصل موضوع الاتفاق“</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نقدا يكون الإيراد هو المتحصلات المباشرة للبيع اى مع استبعاد اى خصم تجارى أو خصم كمية قد تسمح به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 </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09480" y="685800"/>
            <a:ext cx="8001000" cy="468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a:t>
            </a: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لا ينتج إيرادا عند تبادل بضائع أو خدمات ذات طبيعة وقيم عادلة متماث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قد ينتج إيرادا عند تبادل بضائع أو خدمات ذات طبيعة وقيم عادلة مختلفة ويقاس هنا بالقيمة العادلة للبضائع او الخدمات المستلمة بعد تسويتها بأى نقدية مدفوعة او محص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فى حالة عدم القدرة على تحديد القيمة العادلة للمقابل المستلم يقاس الإيراد بالقيمة العادلة لما تقدمه المنشأة بعد التسوية بأى نقدية مدفوعة أو محصلة.</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879480"/>
            <a:ext cx="8153280" cy="521460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تابع : قياس الإيراد</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ند بيع بضاعة يتضمن سعرها مبلغ محدد لتأدية خدمة مستقبلية فيتم تأجيل إثبات المبلغ المحدد لتأدية الخدمة كإيراد وإثباته على مدار فترة تأدية الخدمة المستقبل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برامج الحاسب الآلى مع تقديم خدمة ما بعد البيع (مساعدة فن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البضائع الاستهلاكية متضمنة خدمات مجانية خلال فترة الضما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يتم تحديد مخصصات للديون المشكوك فيها والمردودات ويتم الافصاح عنها بشكل مستق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457200" y="80316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عتراف بالإيراد</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اعتراف بالإيراد المتعلق ببيع السلع والبضائ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ستيفاء </a:t>
            </a:r>
            <a:r>
              <a:rPr b="0" lang="ar-SA" sz="2400" spc="-1" strike="noStrike" u="sng">
                <a:solidFill>
                  <a:srgbClr val="ffffff"/>
                </a:solidFill>
                <a:uFillTx/>
                <a:latin typeface="Times New Roman"/>
              </a:rPr>
              <a:t>كافة </a:t>
            </a:r>
            <a:r>
              <a:rPr b="0" lang="ar-SA" sz="2400" spc="-1" strike="noStrike">
                <a:solidFill>
                  <a:srgbClr val="ffffff"/>
                </a:solidFill>
                <a:latin typeface="Times New Roman"/>
              </a:rPr>
              <a:t>الشروط التالي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البائع قد حول مخاطر ومزايا حقوق الملكية الى المشترى.</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م احتفاظ البائع بأى مشاركة إدارية أو رقابية جوهرية على البضاعة المباعة والتى ترتبط عادة بالملكية. (بيع وحدات المبانى بالتجزئة – مبيعات لحقوق الامتياز)</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مبلغ الإيراد بدرجة موثوق بها.</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محتمل تدفق المنافع الاقتصادية المصاحبة للمعامل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التكاليف المتكبدة بالنسبة للمعاملة بدرجة موثوق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228600" y="533520"/>
            <a:ext cx="868680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اغلب الاحوال تنتقل المخاطر والمزايا المتعلقة بالبضاعة المباعة عند توصيل البضائع الى المشترى الذى يقوم بالتوقيع بما يفيد استلامها وانها بحالة جيدة ، وبالتالى تتحقق الشروط الخمسة السابق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انتقال حق الملكية والحيازة الى المشترى مع احتفاظ المنشاة بالمخاطر والمزايا ، فلا تعتبر هذه العملية بيعا ولا يتم الاعتراف ب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حتفاظ المنشاة بالمسئولية عن الأداء غير المرضى لأصل غير مغطى بمخصص ضمان.</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عندما يتوقف تحصيل الإيراد الخاص بالبيع على الإيراد الذى يحققه المشتر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شحن البضاعة على اساس الاستلام بعد التركيب الذى هو جزء أساسى من عقد البيع.</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احتفاظ المنشاة بالملكية مع انتقال الحيازة للمشترى فتعتبر هذه المعاملة بيعا ويتم الاعتراف بالإيراد مثل عمليات البيع مع حفظ حق الملكية ضمانا للسداد.</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0"/>
            <a:ext cx="8076960" cy="7660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يرادات المتعلقة بتأدية الخدم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اعتراف بالإيراد من الخدمات طبقا لدرجة استكمالها عند الوفاء </a:t>
            </a:r>
            <a:r>
              <a:rPr b="0" lang="ar-SA" sz="2400" spc="-1" strike="noStrike" u="sng">
                <a:solidFill>
                  <a:srgbClr val="ffffff"/>
                </a:solidFill>
                <a:uFillTx/>
                <a:latin typeface="Times New Roman"/>
              </a:rPr>
              <a:t>ب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 قياس مبلغ الإيراد بدرجة موثوق في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حتمال تدفق المنافع الاقتصادية المصاحبة للمعاملة الى المنشأ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رحلة إتمام العملية فى تاريخ الاعتراف بدرجة موثوق ب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التكاليف المتكبدة للعملية وتكاليف استكمالها بدرجة موثوق بها.</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لم يتم استيفاء هذه الشروط فقد يتم الاعتراف بالإيراد فى حدود التكاليف القابلة للاسترداد.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وم المنشاة بمراجعة وتعديل الإيراد المقدر كلما تطلب الامر ذلك فى ضوء ما تم تنفيذ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Administrator</cp:lastModifiedBy>
  <dcterms:modified xsi:type="dcterms:W3CDTF">2004-10-16T17:40:34Z</dcterms:modified>
  <cp:revision>54</cp:revision>
  <dc:subject/>
  <dc:title>PowerPoint Presentation</dc:title>
</cp:coreProperties>
</file>